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F07B-C921-4D3F-AB5F-1FE46727F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51EA-36E6-4023-BA2E-2A951F68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CCEA-7515-4473-91E5-C33EBF3CB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3C60-5448-412B-B845-CE9D83247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3905-BDF2-4591-B3EA-D01BE56D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8649-77EF-4709-A9FB-AD44FAB8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1672-773E-4C77-9243-9B7BA609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3E37-3885-4532-A58F-5AEF5D1F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F334-773F-40C2-9781-41B4D558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D2DB-78A1-4B02-AAEB-B489B63D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766D-D761-4D74-A5BD-5D56B75F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481D-5A81-4CA1-990F-F086B142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4AB2-649B-447D-8695-D73E051C1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0666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9061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ableau Gan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09480"/>
            <a:ext cx="3200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ctions à réali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9810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2860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5909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8954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004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5530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ité de pilotage (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1148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098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7242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0292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6386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4197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9436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2485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taux / acteurs / mo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004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04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004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04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576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576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148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148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148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292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292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292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292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292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864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864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864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864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864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864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864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864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864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436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436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436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36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36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436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436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436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9436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436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436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436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436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36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436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436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08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008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008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008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008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8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08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008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008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152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152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152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152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152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152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152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3152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152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3152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3152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152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3152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152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152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152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3152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152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7724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7724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7724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7724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7724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7724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724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7724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7724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7724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7724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7724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7724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7724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724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724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724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7724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7724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2296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2296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2296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2296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2296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2296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2296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2296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2296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296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2296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2296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2296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2296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2296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296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2296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2296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2296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2296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6868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6868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6868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868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6868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6868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6868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6868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6868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6868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6868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6868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6868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6868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6868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6868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6868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6868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6868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0" y="60948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144000" y="10666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0" y="13716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144000" y="16765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144000" y="19810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0" y="22860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144000" y="25909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0" y="28954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0" y="32004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144000" y="35053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144000" y="38098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0" y="41148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0" y="44197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144000" y="47242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9144000" y="50292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144000" y="5334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0" y="56386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144000" y="59436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144000" y="62485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144000" y="65530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DERS</cp:lastModifiedBy>
  <cp:lastPrinted>2000-05-11T10:17:14Z</cp:lastPrinted>
  <dcterms:modified xsi:type="dcterms:W3CDTF">2002-03-09T10:18:49Z</dcterms:modified>
  <cp:revision>104</cp:revision>
  <dc:subject/>
  <dc:title>Présentation PowerPoint</dc:title>
</cp:coreProperties>
</file>